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F3F-B089-4DB4-B10E-0E1C34F1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6DB-6485-4953-A221-66EFD774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604-74C4-4EED-A74C-537A94D9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D69-90FF-4F03-BC16-DADE6C74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C20D-94AA-42D4-A379-4B863FFE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8CAC-2F60-40DF-9283-50FA646D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F0F1-6D64-4D8E-9DEE-4711BB41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81B1-4B93-442D-947E-48E254D5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E540-287E-4DD5-886F-06E53EEF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642D-D961-4A16-B642-1F648FB8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B427-591B-4CA3-B9ED-26936EDD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9EF-0A8C-4492-8C2D-037C93F3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5837-CFB1-4A50-8505-7B685188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AF23-82F8-47B3-9D56-A634B374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BB53-EB67-4FD8-BD10-A6BB67D8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AE4B-8684-4056-9787-78B810BB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961D-A672-4FD6-88DE-153BAB17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A34C-B650-4292-B1CB-121EE217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31297-4106-43AD-BA3B-D86130DD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1FBDD-955A-4215-B448-776B452B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9C04E-07A9-4E2B-A91D-537625E1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09DBC-88B6-44BD-90EE-3ACA9070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297-BFE7-405B-BE2A-247BF38F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8AFD2-8CB3-44C2-B858-777AEF36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76123-38D5-42E7-828F-906FDD9D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E48C-5400-4D12-9667-5D4E3C78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D6A86-5443-44C3-8E97-FC311AEA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421D-2D85-4423-948D-05605255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BC501-DDC4-4DE3-A239-569566DB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5917E-6B0A-4EDA-9B12-78B237D0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2D0E1-EFF8-4884-BDA5-00168B85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6E9BE-A5BD-428D-8DD2-20D42009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38BE9-BF77-4704-9347-E767A3CD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526-79A7-4BA9-8B12-7CDFCCA0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EB910-4FE2-4BB5-953F-902D5D72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49C38-E72B-42B0-8E7C-6354D88F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E6F8F-EBCF-4518-9453-D46A5015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8D132-96A3-465B-A351-354FDC74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57BE6-56F9-4D34-A8FF-C92AEC3C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40C01-9E9A-4625-A661-668B48E0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D7C09-E3AA-44B0-963C-EA387B6B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C52DA-2975-4F22-B880-E7257EEF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117E4-928E-4842-9F57-800257C2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2EEB8-061C-428B-B5BB-D1B14F31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FA26-7AEF-4806-AC2C-FD75B22B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D0D6C-BF74-4D0D-B18E-DA586401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0CE2B-0817-461C-A9EE-C31A4B11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DB479-03C1-4C95-B11E-0682DB76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54D3D-E518-4328-834D-3B8D72B5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18F7E-BFD0-41DE-A79C-E9868756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2F268-9A9B-4A01-982C-48357DFE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C4BA7-9419-43CC-B8DD-2423096A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06832-AAB6-4C90-AA64-7F264309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5B43B-E0A8-4CF8-AD75-738D8144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C7E2B-85F8-409E-9CBF-81ECBE31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CDA-9CD2-4135-9A12-5EB50AC7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2AE9F-78B6-4824-A799-213B1441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328-B024-4DED-AE87-55CF8BB4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AD4-C09B-418D-B1F9-E48EC50B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192-FE91-47CE-AC12-DC6105BC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0819-5CA4-4107-8A28-CC64A5E0345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6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8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1940-105C-456A-8A62-B58E1E3BC77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A8F2-1FC0-4C04-9DFC-E216DD02F9F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FD79-FD64-4FB1-801A-64464182C70C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8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2C0E-71D4-4BCC-A174-00EEBBC659C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hyperlink" Target="http://rds.yahoo.com/_ylt=A0WTb_251ZtMsE8AsrCJzbkF;_ylu=X3oDMTBpc2ozM2gzBHBvcwM0BHNlYwNzcgR2dGlkAw--/SIG=1eu7ne37s/EXP=1285367609/**http%3A//images.search.yahoo.com/images/view%3Fback=http%253A%252F%252Fimages.search.yahoo.com%252Fsearch%252Fimages%253Fp%253Dsun%2526ei%253Dutf-8%2526fr%253Dslv8-msgr%26w=3576%26h=3480%26imgurl=ellsworthme.org%252FMESEA%252FSarahSun2.gif%26rurl=http%253A%252F%252Fellsworthme.org%252FMESEA%252F%26size=107KB%26name=Sarah%2527s%2BSun%26p=sun%26oid=b26551eb90bc7e9979f568ae2ac4e3c0%26fr2=%26no=4%26tt=31900000%26sigr=10t2q1cun%26sigi=1137opu9b%26sigb=128mhgj6u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rds.yahoo.com/_ylt=A0PDoYCT3JtMxFkAfhGJzbkF;_ylu=X3oDMTBqamdoM3Q5BHBvcwMxMgRzZWMDc3IEdnRpZAM-/SIG=1ktv1g6mj/EXP=1285369363/**http%3A//images.search.yahoo.com/images/view%3Fback=http%253A%252F%252Fimages.search.yahoo.com%252Fsearch%252Fimages%253Fp%253Dtime%252Bpiece%2526ei%253DUTF-8%2526fr%253Dslv8-msgr%2526fr2%253Dtab-web%26w=640%26h=480%26imgurl=www.randomagic.com%252Fmm5%252Fgraphics%252F00000001%252Fmajestic.jpg%26rurl=http%253A%252F%252Fwww.randomagic.com%252Fmm5%252Fmerchant.mvc%253FScreen%253DPROD%2526Store_Code%253D%2526Product_Code%253Dranmaj%2526Category_Code%253DBestSellers%26size=79KB%26name=...%2BRoyal%2BMajest...%26p=time%2Bpiece%26oid=b68be996bc4d5f32941a74a83317fd8f%26fr2=tab-web%26no=12%26tt=5560000%26sigr=13g27c89k%26sigi=11l7evtsn%26sigb=12rfcr1eh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about.com/" TargetMode="External"/><Relationship Id="rId3" Type="http://schemas.openxmlformats.org/officeDocument/2006/relationships/hyperlink" Target="http://www.wiki.answers.com/" TargetMode="External"/><Relationship Id="rId4" Type="http://schemas.openxmlformats.org/officeDocument/2006/relationships/hyperlink" Target="http://www.answers.com/" TargetMode="External"/><Relationship Id="rId5" Type="http://schemas.openxmlformats.org/officeDocument/2006/relationships/hyperlink" Target="http://www.black-inventor.com/Benjamin-Banneker.asp" TargetMode="External"/><Relationship Id="rId6" Type="http://schemas.openxmlformats.org/officeDocument/2006/relationships/hyperlink" Target="http://www.itsaboutclocks.com/" TargetMode="External"/><Relationship Id="rId7" Type="http://schemas.openxmlformats.org/officeDocument/2006/relationships/hyperlink" Target="file:///a74a83317fd8f&amp;fr2=tab-web&amp;no=12&amp;tt=5560000&amp;sigr=13g27c89k&amp;sigi=11l7evtsn&amp;sigb=12rfcr1eh" TargetMode="External"/><Relationship Id="rId8" Type="http://schemas.openxmlformats.org/officeDocument/2006/relationships/hyperlink" Target="file:///a74a83317fd8f&amp;fr2=tab-web&amp;no=12&amp;tt=5560000&amp;sigr=13g27c89k&amp;sigi=11l7evtsn&amp;sigb=12rfcr1eh" TargetMode="External"/><Relationship Id="rId9" Type="http://schemas.openxmlformats.org/officeDocument/2006/relationships/hyperlink" Target="file:///a74a83317fd8f&amp;fr2=tab-web&amp;no=12&amp;tt=5560000&amp;sigr=13g27c89k&amp;sigi=11l7evtsn&amp;sigb=12rfcr1eh" TargetMode="Externa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Destiny Tucker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Before clocks were made, time was told by the way the sun moved. The word clock was first used i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the 14</a:t>
            </a:r>
            <a:r>
              <a:rPr b="0" lang="en-US" sz="2600" spc="-1" strike="noStrike" baseline="30000">
                <a:solidFill>
                  <a:srgbClr val="ac66bb"/>
                </a:solidFill>
                <a:latin typeface="Trebuchet MS"/>
              </a:rPr>
              <a:t>th</a:t>
            </a: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 century, it’s from the Lati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word “clocca” which means bel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5720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83d68"/>
                </a:solidFill>
                <a:latin typeface="Trebuchet MS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ff"/>
                </a:solidFill>
                <a:latin typeface="Trebuchet MS"/>
              </a:rPr>
              <a:t>Early clock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In the early 1750’s, Benjamin Banneker invented the first cloc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He got the idea of making the clock from studying a pocket watch he got from a wealthy associat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After studying the watch, h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made a fully functioned cloc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made out of wooden pie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3" descr="clock.gif"/>
          <p:cNvPicPr/>
          <p:nvPr/>
        </p:nvPicPr>
        <p:blipFill>
          <a:blip r:embed="rId1"/>
          <a:stretch/>
        </p:blipFill>
        <p:spPr>
          <a:xfrm>
            <a:off x="5410080" y="3581280"/>
            <a:ext cx="1981440" cy="2882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rebuchet MS"/>
              </a:rPr>
              <a:t>Peter Henlein made the time piece, better known as a wrist watch in 1504. But in 1878, Sir Sanford Fleming made it more accurat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rebuchet MS"/>
              </a:rPr>
              <a:t>Christian Huygens made the clock more accurate when he invented the pendulum clock, better known as the “Grandfather Clock”, in 1656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rebuchet MS"/>
              </a:rPr>
              <a:t>The clock that’s used in our every day life is called the quartz clock, It was invented in 1927 by Warren Marriso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304920"/>
            <a:ext cx="7467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de66"/>
                </a:solidFill>
                <a:latin typeface="Trebuchet MS"/>
              </a:rPr>
              <a:t>Changes of clocks over the years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608960" cy="115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lock.gif"/>
          <p:cNvPicPr/>
          <p:nvPr/>
        </p:nvPicPr>
        <p:blipFill>
          <a:blip r:embed="rId2"/>
          <a:stretch/>
        </p:blipFill>
        <p:spPr>
          <a:xfrm>
            <a:off x="3200400" y="1828800"/>
            <a:ext cx="1380960" cy="2009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057400"/>
            <a:ext cx="1828800" cy="1771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44197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Go to fullsize image"/>
          <p:cNvPicPr/>
          <p:nvPr/>
        </p:nvPicPr>
        <p:blipFill>
          <a:blip r:embed="rId7"/>
          <a:stretch/>
        </p:blipFill>
        <p:spPr>
          <a:xfrm>
            <a:off x="5486400" y="2133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3429000" y="3960720"/>
            <a:ext cx="2590920" cy="2568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2"/>
              </a:rPr>
              <a:t>www.about.co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3"/>
              </a:rPr>
              <a:t>www.Wiki.answers.co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4"/>
              </a:rPr>
              <a:t>www.answers.co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5"/>
              </a:rPr>
              <a:t>http://www.black-inventor.com/Benjamin-Banneker.asp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6"/>
              </a:rPr>
              <a:t>www.itsaboutclocks.co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90c5"/>
                </a:solidFill>
                <a:latin typeface="Trebuchet MS"/>
              </a:rPr>
              <a:t>Pictur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Times New Roman"/>
              </a:rPr>
              <a:t>1</a:t>
            </a: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7"/>
              </a:rPr>
              <a:t>a74a83317fd8f&amp;fr2=tab-</a:t>
            </a: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8"/>
              </a:rPr>
              <a:t>web&amp;no</a:t>
            </a: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9"/>
              </a:rPr>
              <a:t>=12&amp;tt=5560000&amp;sigr=13g27c89k&amp;sigi=11l7evtsn&amp;sigb=12rfcr1eh</a:t>
            </a: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Times New Roman"/>
              </a:rPr>
              <a:t>http://images.search.yahoo.com/search/images?p=pendulum+clock&amp;fr2=tab-web&amp;xargs=0&amp;pstart=1&amp;b=21&amp;ni=20</a:t>
            </a: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Times New Roman"/>
              </a:rPr>
              <a:t>http://www.theclockgallery.com/usrimage/85786.jpg</a:t>
            </a: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Times New Roman"/>
              </a:rPr>
              <a:t>http://www.bnl.gov/bera/activities/globe/Banneker_files/clock.gif</a:t>
            </a: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077320" cy="6858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8000" spc="-1" strike="noStrike">
                <a:solidFill>
                  <a:srgbClr val="d60093"/>
                </a:solidFill>
                <a:latin typeface="Trebuchet MS"/>
              </a:rPr>
              <a:t>The End!!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38:53Z</dcterms:created>
  <dc:creator>student</dc:creator>
  <dc:description/>
  <dc:language>en-US</dc:language>
  <cp:lastModifiedBy>Taylor</cp:lastModifiedBy>
  <dcterms:modified xsi:type="dcterms:W3CDTF">2010-09-24T00:13:55Z</dcterms:modified>
  <cp:revision>15</cp:revision>
  <dc:subject/>
  <dc:title>The History of Clock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2619749</vt:r8>
  </property>
</Properties>
</file>